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47" end="5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513-903F-4B4F-8883-29100ECC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0A0E-BFFD-4FD8-B2AD-F10E7191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472-3F75-480D-931C-EAEF8E76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657-4740-46AE-B624-88C229DC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FD0-A17A-4E76-8DD4-50C931CC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FAAC-FF51-4AA9-AB68-03A5DE60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814-D559-4C1D-BBE4-AF7A3ABA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07A-4B43-4476-9EE7-0EE5AF71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6A7-00D1-438A-BCA8-6E674785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08D-4618-4FFC-8630-F6A4616C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B7B-82F2-4538-A3BB-545626F6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7BF-58B9-4BB1-8151-2D03C961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6545-641F-4977-851D-3887713635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001.r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Unit 20  Disabilit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FEE-2A6E-4D5A-846A-CF9A8D24BA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The number of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The situation(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) of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with 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e schools for the disabled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eople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CBC-E5FA-4215-8753-9DD68CF09C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ews of Dis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3C1D-ED6C-4776-9F97-1398D484B4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difficulty in doing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做某事有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2160" y="3352680"/>
            <a:ext cx="629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thers may </a:t>
            </a: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have difficulty i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ovin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5A08-00F3-44BD-ACB0-99C351762A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difficulty with sth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在某方面有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th (much/great) difficulty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困难地，费劲地，吃力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轻易地，不费事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267080"/>
            <a:ext cx="461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4FE-2F6C-4903-9A51-D2B42DF963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managed to calm her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great difficult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You’ll find the plac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ny difficult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4960" y="2057400"/>
            <a:ext cx="61668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don’t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have much difficult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English gramm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1CC-C8FD-4E55-AC03-48A8408BDE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4440" y="3352680"/>
            <a:ext cx="736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t is probable that one day we wil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end up 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137-BCA5-43C3-85B6-BEB890D723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2788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59276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 with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…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…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start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our dinner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ou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t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up 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fru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1080" y="2590920"/>
            <a:ext cx="23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gin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2590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art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5B0-9486-4AFC-91F5-1A8DB2F83E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 in /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最后的结局是…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最后成为…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 thief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ed up 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is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will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 up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me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CC4-6D1E-40C0-9E50-ABB04E8828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nside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ink that something is true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7400" y="3352680"/>
            <a:ext cx="72248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me people …,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consid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g th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to b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stupi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579-9AB7-4987-A875-2013E01289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nsider…(as/ to be)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把…看作，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We all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ofessor Zh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anshan (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/to b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 a great doct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ome scientists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ll be controlled very so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FF5-0864-4430-AC38-E83F6E8239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t 20  Di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教学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know more about disabi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To learn Grammar—Inver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E11-0234-4B7D-969E-F0B18B5FF4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ink carefully about sth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考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n she sat down to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r position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6000" y="4191120"/>
            <a:ext cx="6447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a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considering stud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dicine when I go to colle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409-DB55-46D4-B97F-D06C022EA2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…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Paragraph 2, Page 46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call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把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称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0240" y="3429000"/>
            <a:ext cx="789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ce, people would often be </a:t>
            </a: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ref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to a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“deaf” or “blind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B54-B176-4974-8FEF-9D5269F4D9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…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All his fellow students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im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“the living Lei Feng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2360" y="4038480"/>
            <a:ext cx="633456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is referred to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“the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i Feng” by all his fe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tudents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1BD-BF50-48AA-BA6A-80604E0B81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look at for informatio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查阅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参阅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 can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is book no matter what information you need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EA31-E17A-400B-9D0F-7DCB24332E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be used to mean some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指的是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y “Teacher” w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person who supplies us with knowled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8E24-DFDD-42A5-93AD-2D92FA658C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mention or speak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提到，谈到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2200" y="4191120"/>
            <a:ext cx="7253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y sister often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refers to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in 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tt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E2B-7262-4058-9066-2095139CB5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s well a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又、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should provide an entrance 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ff"/>
                </a:solidFill>
                <a:latin typeface="Times New Roman"/>
              </a:rPr>
              <a:t>as well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lifts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8840" y="4724280"/>
            <a:ext cx="637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can speak English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as well a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er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AD3-052E-4620-8A7D-CA95A22A26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s well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也、还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can ride a horse. And she c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oot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 well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5480" y="4343400"/>
            <a:ext cx="674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know you like English 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as w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F2F-4CF9-4A6D-AFD3-68885B4445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had forgotten the date of th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ar, so I  _____ a history boo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eferr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e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4C2-C481-47E4-936A-5F10734667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had forgotten the date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ar, so I______ a history boo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referr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e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06D-5017-4472-9E06-2E882ED6ED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 Comprehens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agraph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It’s not right to look down up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with disabilit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One day we will en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 Many people have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239-364A-414F-9254-16B41B779B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m going to Hong Kong and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ster is going 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f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DBE-119D-4DC3-A97B-59F186BCE7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m going to Hong Kong and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ster is going 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f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A34-84FA-45D2-890D-7D066E6881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can remember her e-ma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dress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ith much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ave great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CCB-1974-468C-994D-6ECC37CACC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can remember her e-ma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dress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ith much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ave great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B87-C6ED-46D0-BEF5-C6DE5291AB3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t is important for you ____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590-5C82-4E60-8AE9-C9539AEB68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t is important for you ____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573-40D1-4242-9FD7-E01B766C306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Carters usually _____ the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pper _____ ice c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end up,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 up,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nd up,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6D2-25B0-420A-8065-7F25E850D59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Carters usually _____ the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pper ___ ice c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end up,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 up,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nd up,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AA5-6E57-4782-8735-4323DB9818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He 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ideas to be practic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s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fers to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860-FC11-420A-A99F-0AA4A5BB3E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He 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ideas to be practic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s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fers to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cons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0A1-64B5-475F-8D52-0EADC07A7D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ad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agraph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. It’s not right to look down up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eople with disabilit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One day we will en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 Many people have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9E8-2CEF-4548-8BA4-572A64E0BC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ne 1, Paragraph 1, Page 44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n a lecture hall of a univers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England sits a profess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487-0AFF-44CE-BED6-5A42422F6E5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A professor sits in a lecture h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f a university in Eng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E26-F15E-4D47-BAEB-5133C557A69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Line 4, Paragraph 1, Page 44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Not only does he have to typ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t the answers on a comput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ut he also gets the comput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nslate it into sou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687-841D-44D1-9263-942B74AF090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not only has to type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answers on a comput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t he also gets the comput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ranslate it into sou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712-4012-41AE-A8B7-46533D9BCBB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Line 3, Paragraph 3, Page 46)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t only will help be giv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eople to find jobs, but als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dical treatment will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ovided for people who ne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72A-D734-4ED3-B2AF-D54BBB12CF9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ot only will be giv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to find jobs, but als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dical treatment will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vided for people who ne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B6F-7BE5-4F4F-A96F-EC34375FB76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个句子的正常语序应该是主语在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谓语在其后。但是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99ff"/>
                </a:solidFill>
                <a:latin typeface="Times New Roman"/>
              </a:rPr>
              <a:t>由于语法、修辞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99ff"/>
                </a:solidFill>
                <a:latin typeface="宋体"/>
              </a:rPr>
              <a:t>强调或句子结构上的需要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而把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的谓语放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这样就构成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主、谓语顺序颠倒的句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这种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就叫做</a:t>
            </a:r>
            <a:r>
              <a:rPr b="0" lang="zh-CN" sz="3200" spc="-1" strike="noStrike">
                <a:solidFill>
                  <a:srgbClr val="ff66ff"/>
                </a:solidFill>
                <a:latin typeface="宋体"/>
              </a:rPr>
              <a:t>倒装句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AF8-C0B2-47AB-9F38-360C2887E28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如果句子的全部谓语都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这叫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完全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如果只是部分谓语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也即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助动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或情态动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这叫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分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C44-E100-4D95-B435-E0D7E0A1CEF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当副词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there, here, up, down, i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out, then,  now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等位于句首时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如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主语是名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要全部倒装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Here comes the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here goes the b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AEB-3048-4E7D-9558-F7F4E670305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当副词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there, here, up, down, i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out, then,  now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等位于句首时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如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主语是名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要全部倒装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但如果主语是人称代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无需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ere he comes.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re it 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9DC-F4B8-4A0B-85F6-F042D864852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Most of the deaf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a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Most of the blind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gh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Disabilities are not total, in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E41-570F-4556-A8F2-98892556C6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例句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ly in her own room can s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eel sa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98C-25B8-460E-BA79-1075325E6D4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当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not only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副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介词短语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状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等结构位于句首时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需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部分倒装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C7C5-A6AB-408E-A8BB-4F51423270B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Line 6, Paragraph 4, Page 46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people will learn abo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 only when they go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same schools as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1F1-B5B0-4EA9-87F5-037830C8479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ly when they go to the s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chools as people with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will young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arn about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1FB-BD75-46F9-9972-C45CFC22847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can you expect to get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y rise. (2000 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 hard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Only with hard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lthough work 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353-A544-4BE2-AE46-665D303E350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can you expect to get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y rise. (2000 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 hard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Only with hard work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lthough work 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68B-1650-444C-93F7-DE91F4236FF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actice 4---Page 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ord Formation---Page 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xercise 2---Page 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. Exercise 1---Page 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预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8F7-9836-46EB-AA3D-993ED6BB361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riting---Page 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xercise 3---Page 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选做作业——本单元的其它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F15-C97D-46EF-915F-C5205516167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 http://211.153.43.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 www.bjedu.gov.c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357-9B06-4505-B998-F598E8CCEF6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Most of the deaf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a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Most of the blind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gh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. Disabilities are not total, in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C28-76AD-4500-A061-4D13AB3682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e must do all we can to ma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disabled people’s life easi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e must make sure the disab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eople can use our build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e must make the signs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d easy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4F7-0C18-4DDA-81FE-A084C06F1B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. We must do all we can to ma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disabled people’s life easi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We must make sure the disab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can use our build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We must make the signs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d easy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016-878C-45BB-86D4-1D1C5A94CB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The number of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The situation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 of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th 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e schools for the disabled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eople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DD7-A56C-45E9-93CC-D3F6666F89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01:00:56Z</dcterms:created>
  <dc:creator>BJ4HS</dc:creator>
  <dc:description/>
  <dc:language>en-US</dc:language>
  <cp:lastModifiedBy>Zhang Lingdi</cp:lastModifiedBy>
  <dcterms:modified xsi:type="dcterms:W3CDTF">2003-06-03T06:42:55Z</dcterms:modified>
  <cp:revision>206</cp:revision>
  <dc:subject/>
  <dc:title>Reading Comprehension </dc:title>
</cp:coreProperties>
</file>